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5.jpeg" ContentType="image/jpeg"/>
  <Override PartName="/ppt/media/image17.jpeg" ContentType="image/jpeg"/>
  <Override PartName="/ppt/media/image15.jpeg" ContentType="image/jpeg"/>
  <Override PartName="/ppt/media/image13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chimes.wav" ContentType="audio/x-wav"/>
  <Override PartName="/ppt/media/image16.jpeg" ContentType="image/jpeg"/>
  <Override PartName="/ppt/media/image8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3D1-A670-4AE5-9400-EA0D79CC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1EF-4A45-4C33-ACB0-9889BB80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CA913-5D6C-4F5F-8AC1-34688E33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7FD87-351E-41BE-A511-06D7E25C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BF52A-CF67-447D-84B5-DD6B268D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9ADB1-1BF7-4DFB-A097-608FEF79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69D75-CAF8-4BDC-9A84-3BAA83E1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D9512-3079-45AA-AAE5-D2B23454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E3333-5AF7-49AA-B410-85BC8A4F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D4088-8D04-4D08-988A-BC9C2280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93B48-62EC-4F84-8F1A-10AAC8F8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C666E-0B4B-4798-BF0A-0367E2A5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7C93-02E4-41BD-8A22-48A45550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954CE-ACEB-4BAB-81CB-04261211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88DC5-BC49-4118-BA3F-6D26F125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27D29-4EC0-4560-AD0A-91F98754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7B223-225A-483A-8906-5887BF4D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5DC22-FD2C-49BA-AE4A-B9DA8359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8B32D-7843-4713-B6EC-0028E4FF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CF695-C3AB-4B8A-9F39-5D42478B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A49C3-257F-4604-99B3-E034E0B8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FA7D9-FD5B-480E-A70B-7B9FC85C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A8026-FF79-4775-8DE4-4B5552CD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928-B1AD-49B9-BAFC-38E536B5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2CCE4-7EFB-4852-89B3-D8B36E34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FD3C4-945D-4970-90D2-472D694D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C6DFA-7A5D-4191-B6E7-04C238D0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8C0A0-0C35-4491-87CE-E6F660C2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96345-56D4-400A-9C15-54ACA3DB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58B31-BA64-439F-88BC-CACB239A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A2CE3-2D4A-4DF4-85D8-E774624B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AE3B5-ED0C-4C68-B401-372E92B4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70788-77EE-4991-AE03-569AF68A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B33C9-E0A9-407A-9D49-EAFB4806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152C-AFDE-4498-ACFE-F9D088FA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F58E8-410E-4A02-98EA-C87FE7C0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F7354-064F-46AF-9CD2-B809BDDE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4508E-AFC1-490A-B834-DF83D8F3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7A1E6-0157-4015-B5EB-CE1B7207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BB302-E6FA-4E57-918D-546705C6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EAF46-E484-45AD-AED4-C8BC3066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53444-C056-42CB-9447-691453DC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9D4C2-6D56-4421-8952-E7A29A32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D629C-A252-43F4-9F82-C0CE74C4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9202A-281E-4393-A2BA-B72351B9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5106-8532-4952-A1A7-5C58FDC0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AA4CA-4CA7-4E19-A0B3-5864F511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C1858-2CEB-41ED-81B7-A149F808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0EDC2-12E2-47F1-972F-6AF61D0E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10137-A87B-4C9C-8B35-B471F239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D96DF-2E0F-46FF-ADBC-0B4707AA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2730-887D-40C3-A4D5-903E9BD4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6D03-FAA0-4826-8151-091F6E2A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0CF8-8BA2-4310-8B71-29EF17C4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94D2-9D1A-48A3-A7EF-3A326CFB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45C8-FA4A-4DFE-8572-C085A021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F832-4FFB-4B1A-9B66-CE026810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7DEC-9EFD-4281-B6B1-47E1D9C0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3D9B-BBDD-41EE-983F-952F153B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0B0B-B63F-4677-BD1B-388E6B69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4E25-709F-444E-AFF8-A2DD0AF1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C931-9A9E-4EC4-8D16-872230F1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670B9-F49D-4750-A5AB-E303F8EC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1231C-B095-4959-A44F-B4540C2F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9CFB1-6739-486D-A131-2100236D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4B384-0719-4597-9552-FA8DCF44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D86D7-AFB1-46D9-A856-E70EF489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A1E-4BA3-4705-82C7-79BE4372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230A-E607-45DC-B9AF-9519C3FD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412BE-4645-476F-BAF3-1E7DD50F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3A7C0-CE5C-43A5-88A3-64878944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BE40A-60EE-4BFC-94B2-B3A1625F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6DC73-4215-4ADE-8402-718F8761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9475D-88A7-4C0F-8EAA-CE7CCF89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2749D-EA7C-4F52-99CB-6A3B14B8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54EEA-1011-410D-8792-72548419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AB28C-6B77-47EE-9C20-702260C7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E707E-E5FA-47D0-9408-B22E27B4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CAB-B07A-4959-B05A-431C411B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DBFED-C76D-48BA-9DD8-9229EA34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1D217-18A0-4BF4-9BED-E4C90DA1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80B2A-F95A-4887-A1E1-64EE8616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E9922-40E5-4E59-8E3A-D0A0A2A8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DD7CE-E60D-4B71-8944-0F44F337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E3F19-C212-49F8-B25D-589C86C4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5B3CA-29FD-4D14-8BF9-F40C19AA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CC18-3F2D-4877-9311-4A06A9E5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C90E1-D969-4E0C-91E3-DE136DDC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2B710-C1A9-4E3D-93F6-8679635F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880-9455-4A9B-A0F1-BAB2908B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2A0E8-DDDA-4D4C-BDEA-610455E3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D9FE9-2612-40D3-B4A0-DF93AB48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232D8-AC49-4B5F-98CE-7E844E3A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FFD28-3F40-4059-A993-78F71824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844CA-54D2-49BE-91B9-A46F06A5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E8979-0595-425B-991A-0C33A60A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9B2C1-8EA7-449B-AE4A-DCC9E639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5ADAA-0143-44B5-A40D-2670A964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DA50C-A30B-4E16-8F73-8A20E034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57747-8795-4FBE-A17E-55677711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B6C-503D-4805-A463-60075991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F9938-075E-44A5-8BBB-5744604B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60598-918A-419A-B509-8B1E7D68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27653-11C7-4A90-A352-F476B7AB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9CA61-B62C-40CF-90DD-EC79F3B9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DC97C-E669-4FCD-AB82-2604B4BB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94139-1304-4E1E-9891-457505E4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5C4E4-185B-46C8-8CBA-DA7D7896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62BC9-7444-4E0E-AFAE-6581643E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EF6D7-1729-4C5D-96D7-60DBFDCE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5786A-0DC3-47D2-A734-A030BD0C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93D-6895-42EE-83EE-FD92333A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CBFA1-B96F-4C92-8729-8B0AA59B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1B319-487C-42AF-937C-E29BAF96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68F65-5A7D-412B-B35C-7B4C9602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D6C54-33AF-4154-B724-FCE9D1AA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E7F7E-13AB-4A93-8692-9AEA0447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21183-9154-48FE-9DAA-7EA38C37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5DBAD-F33B-4DF8-B791-6173E6C5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B209D-F4ED-4547-883D-340EE68D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851F7-22CE-4F79-AFAF-C140FCB9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3A7BF-655B-47A1-9E5F-6D9D91F7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45B-C575-488F-A915-091275AD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ED06A-0638-4B63-9840-D31D6195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5898F-744B-4075-AE89-286CA985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BDD5F-A538-4C44-A648-6548F136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B2908-4B98-44B0-B130-A88417C7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8167B-465E-4744-B232-A3D7E52D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9E857-E6D7-4D79-BF85-AD7751A1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46170-4A92-424D-AE63-2F789B86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99AAF-C0D1-4D29-A12F-1421E974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DB970-4D17-4678-ABEE-F8963BAB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4FC07-BE82-4CE2-BB57-94894280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FE7-37CE-4AB2-929D-2E64E8AB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0D256-5DE5-4A9B-BF07-8BD41620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D2290-64AD-488B-BF41-E0566958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F51DF-6A20-4E16-89DF-9B4E4E46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3635C-AA24-4ADA-8EBD-06EB881D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75544-83BE-4513-9790-D48E5EDE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66B19-6639-4986-84D4-99EA4F1E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BF62C-04B2-4BF1-8128-F0CEC8A3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36E95-F597-4F36-A391-EE161DD3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C4B90-0194-44AB-BF39-68198DAE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F9836-F839-49DB-AE56-10BB023A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36DE-CC7E-4982-BDBB-6575FA273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2CB8-78E6-442A-8A23-A22325C44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955F-B981-4AB5-9F55-C483C7083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2792-C5B0-4A69-BC33-0F6118F96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B97E-1076-4711-AA6C-7739E7916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B836-F3EF-4516-BC9C-FAD978CBF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E1EE-861F-421B-B52C-1B33F7967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EAF7-7EB3-4890-B179-C6BFC5D22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07E4-AE4A-4CB1-9582-8879DF92D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61F0-3730-4AE5-98F0-D5D3F600E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3258-482E-4F51-99C1-B6E0A72D3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EE48-2D86-4B74-893A-347927BA9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1"/>
          <p:cNvSpPr/>
          <p:nvPr/>
        </p:nvSpPr>
        <p:spPr>
          <a:xfrm>
            <a:off x="2050920" y="1052640"/>
            <a:ext cx="55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找 骆 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0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3"/>
          <p:cNvSpPr/>
          <p:nvPr/>
        </p:nvSpPr>
        <p:spPr>
          <a:xfrm>
            <a:off x="324000" y="40464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宋体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  <a:ea typeface="宋体"/>
              </a:rPr>
              <a:t>刚才我看见路上有骆驼的脚印，右边深，左边浅，就知道骆驼的左脚有点跛。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11"/>
          <p:cNvPicPr/>
          <p:nvPr/>
        </p:nvPicPr>
        <p:blipFill>
          <a:blip r:embed="rId1"/>
          <a:stretch/>
        </p:blipFill>
        <p:spPr>
          <a:xfrm>
            <a:off x="-304920" y="1440"/>
            <a:ext cx="9753840" cy="685512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3"/>
          <p:cNvSpPr/>
          <p:nvPr/>
        </p:nvSpPr>
        <p:spPr>
          <a:xfrm>
            <a:off x="395280" y="4762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宋体"/>
              </a:rPr>
              <a:t>    </a:t>
            </a:r>
            <a:r>
              <a:rPr b="1" lang="zh-CN" sz="5400" spc="-1" strike="noStrike">
                <a:solidFill>
                  <a:srgbClr val="3333cc"/>
                </a:solidFill>
                <a:latin typeface="宋体"/>
                <a:ea typeface="宋体"/>
              </a:rPr>
              <a:t>我又看见路的左边有一些蜜，右边有一些米，我想骆驼驮的一定是这两样东西。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12"/>
          <p:cNvPicPr/>
          <p:nvPr/>
        </p:nvPicPr>
        <p:blipFill>
          <a:blip r:embed="rId1"/>
          <a:stretch/>
        </p:blipFill>
        <p:spPr>
          <a:xfrm>
            <a:off x="914400" y="-636480"/>
            <a:ext cx="6705720" cy="373212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3"/>
          <p:cNvSpPr/>
          <p:nvPr/>
        </p:nvSpPr>
        <p:spPr>
          <a:xfrm>
            <a:off x="250920" y="3213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669900"/>
                </a:solidFill>
                <a:latin typeface="Times New Roman"/>
                <a:ea typeface="宋体"/>
              </a:rPr>
              <a:t>我还看见骆驼啃过的树叶，上面留下了牙齿印，所以知道它缺了一颗牙齿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468360" y="1397160"/>
          <a:ext cx="8280360" cy="4122720"/>
        </p:xfrm>
        <a:graphic>
          <a:graphicData uri="http://schemas.openxmlformats.org/drawingml/2006/table">
            <a:tbl>
              <a:tblPr/>
              <a:tblGrid>
                <a:gridCol w="4451400"/>
                <a:gridCol w="3828960"/>
              </a:tblGrid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人看到了什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知道了什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66cc"/>
                          </a:solidFill>
                          <a:latin typeface="Times New Roman"/>
                          <a:ea typeface="宋体"/>
                        </a:rPr>
                        <a:t>脚印右深左浅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66cc"/>
                          </a:solidFill>
                          <a:latin typeface="Times New Roman"/>
                          <a:ea typeface="宋体"/>
                        </a:rPr>
                        <a:t>左脚有点跛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66cc"/>
                          </a:solidFill>
                          <a:latin typeface="Times New Roman"/>
                          <a:ea typeface="宋体"/>
                        </a:rPr>
                        <a:t>路边左有蜜右边有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66cc"/>
                          </a:solidFill>
                          <a:latin typeface="Times New Roman"/>
                          <a:ea typeface="宋体"/>
                        </a:rPr>
                        <a:t>左驮蜜右驮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66cc"/>
                          </a:solidFill>
                          <a:latin typeface="Times New Roman"/>
                          <a:ea typeface="宋体"/>
                        </a:rPr>
                        <a:t>树叶上有齿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66cc"/>
                          </a:solidFill>
                          <a:latin typeface="Times New Roman"/>
                          <a:ea typeface="宋体"/>
                        </a:rPr>
                        <a:t>缺了一颗牙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3" name="Text Box 26"/>
          <p:cNvSpPr/>
          <p:nvPr/>
        </p:nvSpPr>
        <p:spPr>
          <a:xfrm>
            <a:off x="971640" y="476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宋体"/>
              </a:rPr>
              <a:t>根据课文内容完成表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066680" y="106668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533520" y="4572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395280" y="404640"/>
            <a:ext cx="34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句式练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324000" y="134136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宋体"/>
              </a:rPr>
              <a:t>老人知道骆驼的左脚有点跛，是因为（     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6"/>
          <p:cNvSpPr/>
          <p:nvPr/>
        </p:nvSpPr>
        <p:spPr>
          <a:xfrm>
            <a:off x="3124080" y="2133720"/>
            <a:ext cx="2210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468360" y="3213000"/>
            <a:ext cx="80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0" lang="zh-CN" sz="4800" spc="-1" strike="noStrike">
                <a:solidFill>
                  <a:srgbClr val="ff6600"/>
                </a:solidFill>
                <a:latin typeface="宋体"/>
                <a:ea typeface="宋体"/>
              </a:rPr>
              <a:t>老人说骆驼驮的一定是蜜和米，是因为（）</a:t>
            </a:r>
            <a:r>
              <a:rPr b="0" lang="zh-CN" sz="3200" spc="-1" strike="noStrike">
                <a:solidFill>
                  <a:srgbClr val="ff66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5"/>
          <p:cNvSpPr/>
          <p:nvPr/>
        </p:nvSpPr>
        <p:spPr>
          <a:xfrm>
            <a:off x="609480" y="3809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7"/>
          <p:cNvSpPr/>
          <p:nvPr/>
        </p:nvSpPr>
        <p:spPr>
          <a:xfrm>
            <a:off x="468360" y="501336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0" lang="zh-CN" sz="4800" spc="-1" strike="noStrike">
                <a:solidFill>
                  <a:srgbClr val="0033cc"/>
                </a:solidFill>
                <a:latin typeface="宋体"/>
                <a:ea typeface="宋体"/>
              </a:rPr>
              <a:t>老人说骆驼缺了一颗牙齿，是因为（    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34876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句式比较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1258920" y="1773360"/>
            <a:ext cx="78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商人听了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按照老人的指点一路找去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找到了骆驼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1042920" y="4149720"/>
            <a:ext cx="7777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宋体"/>
              </a:rPr>
              <a:t>商人听了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宋体"/>
              </a:rPr>
              <a:t>按照老人的指点一路找去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6600"/>
                </a:solidFill>
                <a:latin typeface="Times New Roman"/>
                <a:ea typeface="宋体"/>
              </a:rPr>
              <a:t>果然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宋体"/>
              </a:rPr>
              <a:t>找到了骆驼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"/>
          <p:cNvSpPr/>
          <p:nvPr/>
        </p:nvSpPr>
        <p:spPr>
          <a:xfrm>
            <a:off x="826920" y="155736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宋体"/>
              </a:rPr>
              <a:t>你想对老人和商人说什么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539640" y="990720"/>
            <a:ext cx="441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  <a:ea typeface="黑体"/>
              </a:rPr>
              <a:t>我明白了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324000" y="2209680"/>
            <a:ext cx="8820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宋体"/>
              </a:rPr>
              <a:t>遇到问题，不能光着急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宋体"/>
              </a:rPr>
              <a:t>要冷静，要动脑筋思考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3"/>
          <p:cNvPicPr/>
          <p:nvPr/>
        </p:nvPicPr>
        <p:blipFill>
          <a:blip r:embed="rId1"/>
          <a:stretch/>
        </p:blipFill>
        <p:spPr>
          <a:xfrm>
            <a:off x="1720800" y="304920"/>
            <a:ext cx="545004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4"/>
          <p:cNvPicPr/>
          <p:nvPr/>
        </p:nvPicPr>
        <p:blipFill>
          <a:blip r:embed="rId1"/>
          <a:stretch/>
        </p:blipFill>
        <p:spPr>
          <a:xfrm>
            <a:off x="609480" y="514440"/>
            <a:ext cx="769644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3" descr="野骆驼1"/>
          <p:cNvPicPr/>
          <p:nvPr/>
        </p:nvPicPr>
        <p:blipFill>
          <a:blip r:embed="rId2"/>
          <a:stretch/>
        </p:blipFill>
        <p:spPr>
          <a:xfrm>
            <a:off x="1523880" y="304920"/>
            <a:ext cx="575172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3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1027" descr="骆驼"/>
          <p:cNvPicPr/>
          <p:nvPr/>
        </p:nvPicPr>
        <p:blipFill>
          <a:blip r:embed="rId1"/>
          <a:stretch/>
        </p:blipFill>
        <p:spPr>
          <a:xfrm>
            <a:off x="1219320" y="990720"/>
            <a:ext cx="6476760" cy="4841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1029" descr="两只骆驼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4492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1026" descr="骆驼2"/>
          <p:cNvPicPr/>
          <p:nvPr/>
        </p:nvPicPr>
        <p:blipFill>
          <a:blip r:embed="rId1"/>
          <a:stretch/>
        </p:blipFill>
        <p:spPr>
          <a:xfrm>
            <a:off x="1371600" y="914400"/>
            <a:ext cx="6553080" cy="4703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5"/>
          <p:cNvSpPr/>
          <p:nvPr/>
        </p:nvSpPr>
        <p:spPr>
          <a:xfrm>
            <a:off x="2590920" y="2819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黑体"/>
              </a:rPr>
              <a:t>找骆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8" descr="9"/>
          <p:cNvPicPr/>
          <p:nvPr/>
        </p:nvPicPr>
        <p:blipFill>
          <a:blip r:embed="rId1"/>
          <a:stretch/>
        </p:blipFill>
        <p:spPr>
          <a:xfrm>
            <a:off x="395280" y="-560520"/>
            <a:ext cx="9144000" cy="741852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4"/>
          <p:cNvSpPr/>
          <p:nvPr/>
        </p:nvSpPr>
        <p:spPr>
          <a:xfrm>
            <a:off x="2340000" y="1413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商人丢失的骆驼是什么样子的？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3733920" y="380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细黑"/>
                <a:ea typeface="华文细黑"/>
              </a:rPr>
              <a:t>自 学 提 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2484360" y="2205000"/>
            <a:ext cx="59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老人怎么知道这只骆驼的样子？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3059280" y="285264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商人怎么找到骆驼的？</a:t>
            </a:r>
            <a:r>
              <a:rPr b="0" lang="zh-CN" sz="2800" spc="-1" strike="noStrike">
                <a:solidFill>
                  <a:srgbClr val="ff66cc"/>
                </a:solidFill>
                <a:latin typeface="宋体"/>
                <a:ea typeface="宋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2"/>
          <p:cNvSpPr/>
          <p:nvPr/>
        </p:nvSpPr>
        <p:spPr>
          <a:xfrm>
            <a:off x="3276720" y="3645000"/>
            <a:ext cx="43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提出学不懂的地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6T13:09:21Z</dcterms:created>
  <dc:creator/>
  <dc:description/>
  <dc:language>en-US</dc:language>
  <cp:lastModifiedBy>小慕</cp:lastModifiedBy>
  <dcterms:modified xsi:type="dcterms:W3CDTF">2018-04-01T11:21:0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